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956-9E75-498D-A530-6A3835D6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B90-7ADB-4782-8FEA-9A9B3BB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FC1-3468-4A54-B37D-00FB4DA0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FF1-F1E7-4837-BBE6-6387F8A7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148-66BE-4C5C-86BE-0E6893D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25-5675-445C-9EE7-8B807BA5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C6F-B867-4B02-B73B-3F743D3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126-D946-4404-A687-668AE041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266-6928-4D35-B78C-E686F4E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B68-CD01-4A92-A3F0-BE324FB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FC0-BD91-4E22-97FF-59C47D6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CF1-039C-46D6-94DD-3245D4C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79D-0ADB-481A-AFD9-014238EF3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8520" y="2306520"/>
            <a:ext cx="651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3080" y="27637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5640" y="5348160"/>
            <a:ext cx="70628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With the intention to remit  . . .  and for the remission of Original S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55680" y="38307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0320" y="429732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0320" y="476424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2840" y="3324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ke Bizzaro</cp:lastModifiedBy>
  <dcterms:modified xsi:type="dcterms:W3CDTF">2011-06-04T17:25:57Z</dcterms:modified>
  <cp:revision>9</cp:revision>
  <dc:subject/>
  <dc:title>Slide 1</dc:title>
</cp:coreProperties>
</file>